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A5F-7445-4393-9702-329947EC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C53-06F7-4FE8-90F1-147C6E35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407-A18F-48DE-81E2-6E48F2D4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1F1-0708-4477-8508-88E44B8C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62C-1619-4CAF-A4B5-D38C1E34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164-5C66-4767-98E4-A7127249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9F4-C777-4775-9DA2-A4842927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70C-25FD-4280-92A7-D071BF1E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EA7-B855-4597-90FC-2970770F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A31-8A40-4529-8DA4-4CF762B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B6B-A017-4D19-913A-F60DF48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F16-CD8B-43C2-92BA-B77F6BC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B1C8-09FF-436A-A1A3-4D4BB02B0E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5445000"/>
            <a:ext cx="6913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c00000"/>
                </a:solidFill>
                <a:latin typeface="Comic Sans MS"/>
              </a:rPr>
              <a:t>Preschool Les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ittle einsteins theme song.mp3" descr=""/>
          <p:cNvPicPr/>
          <p:nvPr/>
        </p:nvPicPr>
        <p:blipFill>
          <a:blip r:embed="rId2"/>
          <a:stretch/>
        </p:blipFill>
        <p:spPr>
          <a:xfrm>
            <a:off x="755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www.google.com.ph/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www.thinkexist.com/quotations/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omic Sans MS"/>
              </a:rPr>
              <a:t>NUMB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1. to distinguish the numbers and their corresponding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2. To be able to help the children learn how to count numbers from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3. to be able to help children count on thei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7" descr=""/>
          <p:cNvPicPr/>
          <p:nvPr/>
        </p:nvPicPr>
        <p:blipFill>
          <a:blip r:embed="rId1"/>
          <a:stretch/>
        </p:blipFill>
        <p:spPr>
          <a:xfrm>
            <a:off x="1219320" y="730080"/>
            <a:ext cx="2895480" cy="396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486400" y="695160"/>
            <a:ext cx="2901960" cy="399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324000" y="20480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481040" y="18669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5802480" y="1700280"/>
            <a:ext cx="2238120" cy="2047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900000" y="1133640"/>
            <a:ext cx="3505320" cy="340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5624640" y="981000"/>
            <a:ext cx="25336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930240" y="1057320"/>
            <a:ext cx="2743200" cy="35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587840" y="371520"/>
            <a:ext cx="361008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57520" cy="300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4878360" y="747720"/>
            <a:ext cx="380988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hildren are the most valuable resource and its best for future.” – John Fitzgerald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fet</cp:lastModifiedBy>
  <dcterms:modified xsi:type="dcterms:W3CDTF">2012-10-01T16:27:14Z</dcterms:modified>
  <cp:revision>722</cp:revision>
  <dc:subject/>
  <dc:title>Diapositiva 1</dc:title>
</cp:coreProperties>
</file>